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04F-8BBC-406B-BBCB-3FFE2847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FB3-7437-45AA-B7F6-4369C144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C1E-AD0A-41E9-80D7-2A133A49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E61-9C1F-4F8A-8CC8-599A6003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CF57-0C89-4355-A31A-618F2621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34EF-CCFC-4B2A-8E02-E6FDF377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16B4-1207-4BD4-9D5D-EC748D2A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F6BA-2ED5-47A3-93D6-2A0B4E2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5E4F-382D-43DF-AD9D-D3A5A04F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2F1B-9105-4FB7-B5B4-0CC671E3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8892-A2C5-4282-8D29-3DC3D70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0C2-3D00-45D9-AED9-A3DCEC03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64F-D7DE-412C-8CAC-2C12F54F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81DE-4741-45F2-AE8E-2BBCE1C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8DEF-D7AF-483B-B35F-EB662BB0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44A4-F362-4E8B-8F80-46A451C0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A216-8B59-4F61-9C66-3A25C289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F46-F348-4945-90A3-13BC7F8A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CD1-651A-4181-808C-07DCA4E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054-7B87-43C7-8812-97897AF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806-16FC-4652-9B07-F7F519B6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4E7-2139-4A9C-9A74-26BA3CB2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972-7024-4C57-A886-BE764ED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CDC-73B9-48D0-9560-73CBEBB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099-A048-4E3F-83E3-77DBF4AF6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80" y="7192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152280"/>
            <a:ext cx="8251560" cy="1052280"/>
            <a:chOff x="380880" y="152280"/>
            <a:chExt cx="8251560" cy="1052280"/>
          </a:xfrm>
        </p:grpSpPr>
        <p:sp>
          <p:nvSpPr>
            <p:cNvPr id="43" name=""/>
            <p:cNvSpPr/>
            <p:nvPr/>
          </p:nvSpPr>
          <p:spPr>
            <a:xfrm>
              <a:off x="380880" y="260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3560" y="260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4720" y="682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4440" y="682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5400" y="152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6080" y="942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900F-93EF-4AA7-83BB-8752027C70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33300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ing Absolute Value Equation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8576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What is Absolute Valu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number is the number of units it is from zero on the number 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and -5 have the same absolute val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represents the absolute value of the numb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-8| =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4| =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try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15|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-23|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 can also be defined a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, then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0, then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56880"/>
            <a:ext cx="779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e can evaluate expressions that contain absolute value symbols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the |  | bars as grouping symbol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|9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3| + 5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9(-2) -3| +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-18 -3| +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-21| + 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+ 5=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28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Equations may also contain absolute value expres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lving an equation, isolate the absolute value expression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ite the equation as two separate equation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equation  |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= 3.  The equation has two solutions 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equal 3 or -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each equ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eck your solu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olv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| 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:  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8|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-5 + 8|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-11 + 8|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3|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|-3|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3 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00400" y="5791320"/>
            <a:ext cx="380520" cy="228600"/>
            <a:chOff x="3200400" y="5791320"/>
            <a:chExt cx="380520" cy="228600"/>
          </a:xfrm>
        </p:grpSpPr>
        <p:sp>
          <p:nvSpPr>
            <p:cNvPr id="99" name=""/>
            <p:cNvSpPr/>
            <p:nvPr/>
          </p:nvSpPr>
          <p:spPr>
            <a:xfrm>
              <a:off x="3200400" y="5905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254760" y="579132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67280" y="5791320"/>
            <a:ext cx="380520" cy="228600"/>
            <a:chOff x="5867280" y="5791320"/>
            <a:chExt cx="380520" cy="228600"/>
          </a:xfrm>
        </p:grpSpPr>
        <p:sp>
          <p:nvSpPr>
            <p:cNvPr id="102" name=""/>
            <p:cNvSpPr/>
            <p:nvPr/>
          </p:nvSpPr>
          <p:spPr>
            <a:xfrm>
              <a:off x="5867280" y="5905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921280" y="579132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ow Try The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| = 3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must first isolate the variable by ad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3 to both si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two separate equ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: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| - 3 = 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1 + 4| -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7 + 4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-3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|-3|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- 3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3 - 3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0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9880" y="4910040"/>
            <a:ext cx="380520" cy="228600"/>
            <a:chOff x="3809880" y="4910040"/>
            <a:chExt cx="380520" cy="228600"/>
          </a:xfrm>
        </p:grpSpPr>
        <p:sp>
          <p:nvSpPr>
            <p:cNvPr id="107" name=""/>
            <p:cNvSpPr/>
            <p:nvPr/>
          </p:nvSpPr>
          <p:spPr>
            <a:xfrm>
              <a:off x="3809880" y="502416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63880" y="491004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315120" y="4900680"/>
            <a:ext cx="380520" cy="228600"/>
            <a:chOff x="6315120" y="4900680"/>
            <a:chExt cx="380520" cy="228600"/>
          </a:xfrm>
        </p:grpSpPr>
        <p:sp>
          <p:nvSpPr>
            <p:cNvPr id="110" name=""/>
            <p:cNvSpPr/>
            <p:nvPr/>
          </p:nvSpPr>
          <p:spPr>
            <a:xfrm>
              <a:off x="6315120" y="501480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369480" y="490068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9| + 6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isolate the variable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ing 6 from both si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9| = 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o need to go any further with this proble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 is neve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refore, the solution i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pty se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:  3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|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:  3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|9 - 5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3|1 - 5| =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|4|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|-4| =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4)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(4) =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12 =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81280" y="4648320"/>
            <a:ext cx="380520" cy="228600"/>
            <a:chOff x="3581280" y="4648320"/>
            <a:chExt cx="380520" cy="228600"/>
          </a:xfrm>
        </p:grpSpPr>
        <p:sp>
          <p:nvSpPr>
            <p:cNvPr id="115" name=""/>
            <p:cNvSpPr/>
            <p:nvPr/>
          </p:nvSpPr>
          <p:spPr>
            <a:xfrm>
              <a:off x="3581280" y="4762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635280" y="464832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248520" y="4648320"/>
            <a:ext cx="380520" cy="228600"/>
            <a:chOff x="6248520" y="4648320"/>
            <a:chExt cx="380520" cy="228600"/>
          </a:xfrm>
        </p:grpSpPr>
        <p:sp>
          <p:nvSpPr>
            <p:cNvPr id="118" name=""/>
            <p:cNvSpPr/>
            <p:nvPr/>
          </p:nvSpPr>
          <p:spPr>
            <a:xfrm>
              <a:off x="6248520" y="47624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02880" y="464832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  |8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14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 -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nd     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(14 –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your 2 equations, b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ure to negate the enti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ide of the sec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 -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nd     8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4 +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5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8 +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= 14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8 + 5(1)| = 14 -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|8 + 5(-5.5) = 14 - (-5.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13| =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|-19.5| = 19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13 =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9.5 = 19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81280" y="5562720"/>
            <a:ext cx="380520" cy="228600"/>
            <a:chOff x="3581280" y="5562720"/>
            <a:chExt cx="380520" cy="228600"/>
          </a:xfrm>
        </p:grpSpPr>
        <p:sp>
          <p:nvSpPr>
            <p:cNvPr id="122" name=""/>
            <p:cNvSpPr/>
            <p:nvPr/>
          </p:nvSpPr>
          <p:spPr>
            <a:xfrm>
              <a:off x="3581280" y="56768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635280" y="5562720"/>
              <a:ext cx="32652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086600" y="5562720"/>
            <a:ext cx="380520" cy="228600"/>
            <a:chOff x="7086600" y="5562720"/>
            <a:chExt cx="380520" cy="228600"/>
          </a:xfrm>
        </p:grpSpPr>
        <p:sp>
          <p:nvSpPr>
            <p:cNvPr id="125" name=""/>
            <p:cNvSpPr/>
            <p:nvPr/>
          </p:nvSpPr>
          <p:spPr>
            <a:xfrm>
              <a:off x="7086600" y="5676840"/>
              <a:ext cx="54360" cy="1144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140960" y="5562720"/>
              <a:ext cx="32616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9T03:40:15Z</dcterms:created>
  <dc:creator>HCPS</dc:creator>
  <dc:description/>
  <dc:language>en-US</dc:language>
  <cp:lastModifiedBy>Authorized User</cp:lastModifiedBy>
  <dcterms:modified xsi:type="dcterms:W3CDTF">2007-07-24T13:46:49Z</dcterms:modified>
  <cp:revision>53</cp:revision>
  <dc:subject/>
  <dc:title>1.5</dc:title>
</cp:coreProperties>
</file>